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5A16-B60B-46C3-8BC5-8813C8B1C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2D73-0B36-4A3D-9A0A-29B3C1459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7233-BF09-4FB0-BE87-E837A652D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41CF-D9E7-424E-A746-CBE9D535E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5AB-585F-4BC9-A5E4-02041DEA4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616-BB59-4EF1-9202-417855062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A75-7783-461C-897C-BB9AA17D8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165-429B-42FB-96DD-66C858855D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D9A-26E7-4EB5-B150-6B4A10F3E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B3F-B3E2-480D-842F-24F654B262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D9C-B9EC-4899-A28F-DAEB15A54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AC87-1A74-4902-9C9D-C2200E58A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E38-0A42-452A-B876-3FC7B5CAB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A4B-226B-4FBB-A7D9-5F593EDCFE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A7F-33DE-46AB-B1A3-91468915D8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CFB-0E07-41E8-9677-57D3CD1022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24B-35D8-4E1D-AB52-7F6659933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CA8-FF3E-4CB0-9EB7-4854BE59E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4D41-8B1C-4A8D-A7D7-A9067F7B1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A11F-3BA6-4B57-8280-C1ACC8601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1D35-BFCF-4D1C-9971-F55C75E5F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F71E-4F2E-4472-B8A5-7DC66936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61D1-8080-49D9-AA46-D067AAAD1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6AD6-8C36-43E2-846D-137775A6E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\\Composition\d\DESFA\allages entypon\PPT-footer-ENG.jpg"/>
          <p:cNvPicPr/>
          <p:nvPr/>
        </p:nvPicPr>
        <p:blipFill>
          <a:blip r:embed="rId2"/>
          <a:stretch/>
        </p:blipFill>
        <p:spPr>
          <a:xfrm>
            <a:off x="6540480" y="5864400"/>
            <a:ext cx="2603520" cy="993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DESFA_TEMP_ESOTERIKI_A"/>
          <p:cNvPicPr/>
          <p:nvPr/>
        </p:nvPicPr>
        <p:blipFill>
          <a:blip r:embed="rId3"/>
          <a:srcRect l="7936" t="0" r="15895" b="0"/>
          <a:stretch/>
        </p:blipFill>
        <p:spPr>
          <a:xfrm>
            <a:off x="0" y="-2700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98728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1636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9472-18A1-483C-980D-1644858C744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DESFA_FINAL_ESOTERIKI_B"/>
          <p:cNvPicPr/>
          <p:nvPr/>
        </p:nvPicPr>
        <p:blipFill>
          <a:blip r:embed="rId4"/>
          <a:stretch/>
        </p:blipFill>
        <p:spPr>
          <a:xfrm>
            <a:off x="0" y="5934240"/>
            <a:ext cx="2414520" cy="92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\\Composition\d\DESFA\allages entypon\PPT-front_ENG.jpg"/>
          <p:cNvPicPr/>
          <p:nvPr/>
        </p:nvPicPr>
        <p:blipFill>
          <a:blip r:embed="rId2"/>
          <a:stretch/>
        </p:blipFill>
        <p:spPr>
          <a:xfrm>
            <a:off x="0" y="0"/>
            <a:ext cx="9339120" cy="6950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15D-B6DC-47FA-AF6D-A785376AD1DF}" type="slidenum">
              <a:rPr b="1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thern Corrid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P 2014-20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981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seph Florentin, coord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SOG’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IP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ussels 26 Novemb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56000" y="2637000"/>
            <a:ext cx="3960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ern Corridor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countries concer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TSOs from 9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of some Energy Community members is desir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34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countries have still immature mar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dependency on gas supplies from the 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e of large projects of importance exceeding the region it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16480" y="189000"/>
            <a:ext cx="38275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4736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2500200" y="1413000"/>
            <a:ext cx="653112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lude regional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already announced at the launch of the previous SC GRIP, the coming GRIP will include model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over we introduce a more detailed project cluster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fact due to the existence of very large and somehow competing projects the non-FID cluster may give a false impression of sufficiency given that not all of the competing projects will be  implemen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reason we use in modeling the following clust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TAP* + IG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TAP* + IGB + South Stre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P* + IGB + I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non-F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gether with Adriatica and Tirrenica pipeli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s to be includ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rastructure Resilience Assess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of the infrastructure to transport large quantities of gas under severe climatic conditions and subject to various disruption scena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 per coun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 per reg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regions (Med, CEE, NW and Baltic) 1 region under uniform risk, other average week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pply Source Dependence Assess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of zones whose balance depends strongly on a single supply 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pply Source Diver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of each zone to access each identified supply 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-1 on a Regional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A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Z disruption to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ruption of the Revythoussa LNG termi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volve interested stakehol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GRIP 2012-2021 was presented at ACER and Energy Charter events, however no reaction from stakeholders was received. The present event is an opportunity for interaction with stakehold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rmonisation of enhanced GRIP approach across all GRIP reg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SOG has taken initiatives in this direction which will be intensified at the next (2015) iss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ation of possible IP conges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1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tention is to include data on all IPs’ use during the last two ye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0040" y="2500200"/>
            <a:ext cx="4311720" cy="3457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643280" y="2500200"/>
            <a:ext cx="43405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5:00:48Z</dcterms:created>
  <dc:creator>Χατζηαντωνίου Αναστασία</dc:creator>
  <dc:description/>
  <dc:language>en-US</dc:language>
  <cp:lastModifiedBy>Φλωρεντίν Ιωσήφ</cp:lastModifiedBy>
  <cp:lastPrinted>2013-11-25T10:34:06Z</cp:lastPrinted>
  <dcterms:modified xsi:type="dcterms:W3CDTF">2013-11-25T12:02:18Z</dcterms:modified>
  <cp:revision>26</cp:revision>
  <dc:subject/>
  <dc:title>PowerPoint Presentation</dc:title>
</cp:coreProperties>
</file>